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8FA-1671-46E2-BA3E-DD886DA3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3AD-5255-4B4C-83C7-832654C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A79-FDBC-4774-86FB-F16325BC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EB9-6F20-4D42-BC88-7D0F785F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361-96C9-42B9-983E-ADA16EA6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F04-4897-483F-9DCC-D788E823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604-ABD3-4F62-819D-3557A247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E09-91E2-4824-8D0F-12975EDD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B25-D572-4967-8318-7D37955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90E-FE62-4046-8B62-5F14BF58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FE9-1B53-4BD1-911B-34E4662D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3C3-C4BE-488D-A95E-1A6B906C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3E83-C83E-4838-9208-8F4C97448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662940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/sie/es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f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m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gem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l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 … gel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ge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ist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ga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la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schlä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 …geschla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bei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arbeit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gearbeit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au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scha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gescha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e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spie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gespie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lä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ist… gelau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sie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 … gese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uc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besu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 …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uc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h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fäh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ist gefah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il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hol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h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nim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om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8:02Z</dcterms:created>
  <dc:creator>ahart</dc:creator>
  <dc:description/>
  <dc:language>en-US</dc:language>
  <cp:lastModifiedBy>Alissa</cp:lastModifiedBy>
  <dcterms:modified xsi:type="dcterms:W3CDTF">2013-12-31T22:32:31Z</dcterms:modified>
  <cp:revision>9</cp:revision>
  <dc:subject/>
  <dc:title>Slide 1</dc:title>
</cp:coreProperties>
</file>